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4273C-803E-47D2-972F-4DD9CF0F1F7B}"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5F97F-C1CB-4C4B-A680-72101E1E73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CE3B2-DCE1-474A-80ED-1CCB5219E1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96475-7D68-4762-A380-980F7A5D92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2E7E9-C0C0-4F13-B379-2C51EAEDA7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0156A-BA1C-4F07-A4C3-AB6467275C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45825-DD36-4045-986B-7DA6CB8B80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606CB-2BFA-4E00-B15B-D412189A7A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9490C-C7DC-463E-964C-4AD86885B1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31C66-72DD-4EAD-9EE1-160926004C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7FC2E-AE8F-4F14-9AEB-246340322E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F07A9-DE56-4599-A495-1B8E759C22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A1509-B17F-43B2-B8D3-7EF1D9F528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69F4A-08EC-414D-B714-6A20EA3B7B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AB9FB-2EC3-4882-B750-0D88043C78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D138B-4F07-47E9-A2C7-E09F052A2D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B2EDD-45B4-4BB0-BFBE-BCE43B3AC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C887C-E279-447F-9962-A580C15C33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7CE79-8589-423A-AE3A-E8F19314F4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DC41F-5139-4857-8B4B-4D544C65C4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B7AFD-308B-44DA-B4F2-CF72B8E0C1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9566A-ABF7-407F-8AF1-696036DD3F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4C601-0A5F-4ABE-8E4D-9B108F2E08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D0A1C-6539-4A48-8B05-102F5CFF1B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1FD06-B82A-410D-94D3-F3767D9A48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38D14-51B7-4342-9F13-59440E5864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55894-70B6-4DC9-833B-53354C0B66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BE615-5879-4C8D-B5AF-A8D67DE101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C415A-5215-46E5-ACF5-0C6947D567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CE7BC-8867-4CF2-84DA-05A9455B84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DBB25-3CE1-45CB-994F-1474F53168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D08A4-8E2E-46CD-8057-669F86511C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DCAE0-B57E-4D38-A593-C5183C92D6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D7E3C-3FCE-4093-A025-5F6F361FEC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AE0A3-AF88-42CE-AFF1-E86989615E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D4F06-E1C2-497C-802A-DD4640F80F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74971-D2B5-4671-AD5E-55346D8502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BD5DD-D2F4-4537-893F-AA8A52249A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E2F43-9F1B-4F1D-A126-605C88C8BF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32A68-7AB5-4361-9C9A-47934AE77B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F318F-034C-426D-AA3E-B077EEBA9D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10BC7-4F98-44B5-ABDA-3D944B1D77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1824C-3383-478A-9759-DE5B8FCF67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EE98E-FC59-4C42-A381-26CB411D15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0D376-A34D-4696-9FBB-A0E41FB640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C6BD7-887A-47AD-97F7-08D3C8BBAB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E731A-7725-4C8C-9E50-0C7CE3E031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4C394-1824-4DF8-B52D-77E889581A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3E91D-82B7-4F19-A46B-FA81B5B511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7E3EE-22FF-413D-9680-BFBB3B5653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E7CE3-613E-4FB2-9CAB-D98AFD9285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63FEB-9B65-4CC0-9276-F2F82CA50B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7EF9B-FC76-4715-BA12-233B633BD7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AFE5C-84CA-43DA-94CE-D78FFDA606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D17AC-4A12-4BCC-9D13-20391A38A5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95437-19CB-4BB7-AB6D-DEFB2C3E0C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66926-1D09-44BB-B27C-C64D787EF3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77638-257F-40EC-96AD-273562F257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648D4-09E1-428B-B01A-9438C80B80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D4F61-BDEF-4CD9-9B52-4D15D80E60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ED019-22EC-4955-A2CE-274807A97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282F6-4BE2-4179-B77D-E239059C99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F662E-F5D0-4B48-8402-BC27240C50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A5531-42E2-416E-AAD7-0318080545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1E28A-850B-4A9E-A536-D769FC89B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55DC0-E3A7-417F-8939-F064F4651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089A6-F757-4D36-9E12-0B3584265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09811-E0BD-47C3-8F65-5739E62D1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5A50-23B0-4CE2-9D75-7E89894A5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98EF6-C630-42C7-A5B9-A6FD468CB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DD9CD-43F3-4E9E-81A1-D5F25D63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70B81-2D45-4685-A4B9-89D73E6FE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6FC1-3E47-428A-9F4C-66D8C089D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1987-EF08-46C8-BB2E-7F9FC2CD1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0DA5-B0FC-4496-AC1A-0844FA173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B59F-AE32-4F04-A75F-DD08C1AF4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52438-2F67-4AE0-AC7A-E7133EDD485B}"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7CC7C-7F07-4FB9-9322-0EF871E722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464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3.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CEB11E-0025-41DA-9229-4F151A2AA7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9A0A5-7251-44A3-ADAD-40816BA07F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712143-B005-47D0-9049-E84FCF2FF0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483954-A36D-481A-BEA2-5746B6D007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6791E-85DA-4EF1-81BC-B6E5337905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7D48AD-1F2B-48E7-A261-D9F706B2F8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7FCDD-811E-48AD-A792-5498DAFC0B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7D32F-F259-48B3-9E91-ACF3D929CD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83DEA-B6F0-42D7-ADE6-ACFDC3761C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698C5-34C6-465A-8A8F-4913310A65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2CE229-C9AD-4D61-BA3C-06EE064C61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3BD07-2542-44D8-8FE9-AECCD3F36C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5:06:18Z</dcterms:modified>
  <cp:revision>500</cp:revision>
  <dc:subject/>
  <dc:title>Introductory Cybercrime Training for Judges and Prosecutors</dc:title>
</cp:coreProperties>
</file>